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9E8-CBC7-4CC6-A207-A523ED62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158-B333-4D88-A481-3F2D8D64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5C67-C162-4C6E-8AD9-AB4EFB17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608-CE12-4362-94B5-CF6173C4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B19-CEA9-477D-B7DB-FE5EABDD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8ED-E4CD-46F9-BBAF-7CAE1F29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2E8-09F2-49B7-B065-9495C006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513-31A5-4B96-BD37-0E09D4C5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EDC5-DB1D-4EC2-BE1B-2D6196AE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C96-1BF5-476E-A700-FE488825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8992-3D98-4174-8662-9288FC4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2CF-ACC4-4B43-A1D5-00856E08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5E57-A123-4E42-BDCD-86D6B46E0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3.png"/><Relationship Id="rId16" Type="http://schemas.openxmlformats.org/officeDocument/2006/relationships/image" Target="../media/image6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3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iry Mo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952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asy to count your mon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 presentation:  Ann We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1905120"/>
            <a:ext cx="2286000" cy="153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2481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hai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29200" y="1447920"/>
            <a:ext cx="376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count the hairs by 5 you get the amount the coin eq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4267080" y="2666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380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hai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29200" y="1447920"/>
            <a:ext cx="376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count the hairs by 5 you get the amount the coin eq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counting the hairs on the d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10 cents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oooo eas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V="1">
            <a:off x="4267080" y="2666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038480" y="3809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14800" y="403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2286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hair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ve h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029200" y="1447920"/>
            <a:ext cx="376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count the hairs by 5 you get the amount the coin eq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counting the hairs on the d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10 cents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oooo eas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276720" y="38098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124080" y="4876920"/>
            <a:ext cx="1333800" cy="1333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>
            <a:off x="4267080" y="26665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038480" y="3809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14800" y="403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191120" y="472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343400" y="502884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419720" y="548604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123720" y="480024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7432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2286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4952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4495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5334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:  Count by fives and on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in has hair, count hairs by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on ones to add your pennies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3581280"/>
          <a:ext cx="8076960" cy="178272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17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057400" y="3657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200400" y="3886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343400" y="36576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3657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391520" y="37339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H="1">
            <a:off x="1295280" y="4800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09320" y="4495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361960" y="4572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4343040" y="49528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648320" y="49528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05160" y="4876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19112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:  Count by fives and on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in has hair, count hairs by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on ones to add your pennies l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09480" y="3581280"/>
          <a:ext cx="8076960" cy="1782720"/>
        </p:xfrm>
        <a:graphic>
          <a:graphicData uri="http://schemas.openxmlformats.org/drawingml/2006/table">
            <a:tbl>
              <a:tblPr/>
              <a:tblGrid>
                <a:gridCol w="8076960"/>
              </a:tblGrid>
              <a:tr h="17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057400" y="3657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200400" y="3886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343400" y="36576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867280" y="3657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7391520" y="37339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1295280" y="4800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320" y="4495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361960" y="4572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343040" y="49528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648320" y="49528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105160" y="48769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91120" y="46483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5029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54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5334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5029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419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029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172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6248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6248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:  Practice and Show Of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dime" descr=""/>
          <p:cNvPicPr/>
          <p:nvPr/>
        </p:nvPicPr>
        <p:blipFill>
          <a:blip r:embed="rId1"/>
          <a:stretch/>
        </p:blipFill>
        <p:spPr>
          <a:xfrm>
            <a:off x="380880" y="57150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7" name="nickelback" descr=""/>
          <p:cNvPicPr/>
          <p:nvPr/>
        </p:nvPicPr>
        <p:blipFill>
          <a:blip r:embed="rId2"/>
          <a:stretch/>
        </p:blipFill>
        <p:spPr>
          <a:xfrm>
            <a:off x="701028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78" name="pennyback" descr=""/>
          <p:cNvPicPr/>
          <p:nvPr/>
        </p:nvPicPr>
        <p:blipFill>
          <a:blip r:embed="rId3"/>
          <a:stretch/>
        </p:blipFill>
        <p:spPr>
          <a:xfrm>
            <a:off x="7315200" y="297180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79" name="quart" descr=""/>
          <p:cNvPicPr/>
          <p:nvPr/>
        </p:nvPicPr>
        <p:blipFill>
          <a:blip r:embed="rId4"/>
          <a:stretch/>
        </p:blipFill>
        <p:spPr>
          <a:xfrm>
            <a:off x="6095880" y="2438280"/>
            <a:ext cx="962280" cy="962280"/>
          </a:xfrm>
          <a:prstGeom prst="rect">
            <a:avLst/>
          </a:prstGeom>
          <a:ln w="0">
            <a:noFill/>
          </a:ln>
        </p:spPr>
      </p:pic>
      <p:pic>
        <p:nvPicPr>
          <p:cNvPr id="180" name="quarter" descr=""/>
          <p:cNvPicPr/>
          <p:nvPr/>
        </p:nvPicPr>
        <p:blipFill>
          <a:blip r:embed="rId5"/>
          <a:stretch/>
        </p:blipFill>
        <p:spPr>
          <a:xfrm>
            <a:off x="5562720" y="40384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181" name="dimefront" descr=""/>
          <p:cNvPicPr/>
          <p:nvPr/>
        </p:nvPicPr>
        <p:blipFill>
          <a:blip r:embed="rId6"/>
          <a:stretch/>
        </p:blipFill>
        <p:spPr>
          <a:xfrm>
            <a:off x="4572000" y="31240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2" name="dime" descr=""/>
          <p:cNvPicPr/>
          <p:nvPr/>
        </p:nvPicPr>
        <p:blipFill>
          <a:blip r:embed="rId7"/>
          <a:stretch/>
        </p:blipFill>
        <p:spPr>
          <a:xfrm>
            <a:off x="3276720" y="40384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83" name="pennyback" descr=""/>
          <p:cNvPicPr/>
          <p:nvPr/>
        </p:nvPicPr>
        <p:blipFill>
          <a:blip r:embed="rId8"/>
          <a:stretch/>
        </p:blipFill>
        <p:spPr>
          <a:xfrm>
            <a:off x="4724280" y="42670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84" name="penny" descr=""/>
          <p:cNvPicPr/>
          <p:nvPr/>
        </p:nvPicPr>
        <p:blipFill>
          <a:blip r:embed="rId9"/>
          <a:stretch/>
        </p:blipFill>
        <p:spPr>
          <a:xfrm>
            <a:off x="2514600" y="44197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85" name="nickelback" descr=""/>
          <p:cNvPicPr/>
          <p:nvPr/>
        </p:nvPicPr>
        <p:blipFill>
          <a:blip r:embed="rId10"/>
          <a:stretch/>
        </p:blipFill>
        <p:spPr>
          <a:xfrm>
            <a:off x="1676520" y="4495680"/>
            <a:ext cx="733320" cy="733680"/>
          </a:xfrm>
          <a:prstGeom prst="rect">
            <a:avLst/>
          </a:prstGeom>
          <a:ln w="0">
            <a:noFill/>
          </a:ln>
        </p:spPr>
      </p:pic>
      <p:pic>
        <p:nvPicPr>
          <p:cNvPr id="186" name="nickel" descr=""/>
          <p:cNvPicPr/>
          <p:nvPr/>
        </p:nvPicPr>
        <p:blipFill>
          <a:blip r:embed="rId11"/>
          <a:stretch/>
        </p:blipFill>
        <p:spPr>
          <a:xfrm>
            <a:off x="685800" y="426708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87" name="nickel" descr=""/>
          <p:cNvPicPr/>
          <p:nvPr/>
        </p:nvPicPr>
        <p:blipFill>
          <a:blip r:embed="rId12"/>
          <a:stretch/>
        </p:blipFill>
        <p:spPr>
          <a:xfrm>
            <a:off x="3429000" y="25146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88" name="dimefront" descr=""/>
          <p:cNvPicPr/>
          <p:nvPr/>
        </p:nvPicPr>
        <p:blipFill>
          <a:blip r:embed="rId13"/>
          <a:stretch/>
        </p:blipFill>
        <p:spPr>
          <a:xfrm>
            <a:off x="457200" y="30481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89" name="dimefront" descr=""/>
          <p:cNvPicPr/>
          <p:nvPr/>
        </p:nvPicPr>
        <p:blipFill>
          <a:blip r:embed="rId14"/>
          <a:stretch/>
        </p:blipFill>
        <p:spPr>
          <a:xfrm>
            <a:off x="7848720" y="14479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90" name="dime" descr=""/>
          <p:cNvPicPr/>
          <p:nvPr/>
        </p:nvPicPr>
        <p:blipFill>
          <a:blip r:embed="rId15"/>
          <a:stretch/>
        </p:blipFill>
        <p:spPr>
          <a:xfrm>
            <a:off x="6781680" y="15238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91" name="penny" descr=""/>
          <p:cNvPicPr/>
          <p:nvPr/>
        </p:nvPicPr>
        <p:blipFill>
          <a:blip r:embed="rId16"/>
          <a:stretch/>
        </p:blipFill>
        <p:spPr>
          <a:xfrm>
            <a:off x="6019920" y="16002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92" name="quart" descr=""/>
          <p:cNvPicPr/>
          <p:nvPr/>
        </p:nvPicPr>
        <p:blipFill>
          <a:blip r:embed="rId17"/>
          <a:stretch/>
        </p:blipFill>
        <p:spPr>
          <a:xfrm>
            <a:off x="4724280" y="1371600"/>
            <a:ext cx="962280" cy="961920"/>
          </a:xfrm>
          <a:prstGeom prst="rect">
            <a:avLst/>
          </a:prstGeom>
          <a:ln w="0">
            <a:noFill/>
          </a:ln>
        </p:spPr>
      </p:pic>
      <p:pic>
        <p:nvPicPr>
          <p:cNvPr id="193" name="quart" descr=""/>
          <p:cNvPicPr/>
          <p:nvPr/>
        </p:nvPicPr>
        <p:blipFill>
          <a:blip r:embed="rId18"/>
          <a:stretch/>
        </p:blipFill>
        <p:spPr>
          <a:xfrm>
            <a:off x="1219320" y="251460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194" name="dime" descr=""/>
          <p:cNvPicPr/>
          <p:nvPr/>
        </p:nvPicPr>
        <p:blipFill>
          <a:blip r:embed="rId19"/>
          <a:stretch/>
        </p:blipFill>
        <p:spPr>
          <a:xfrm>
            <a:off x="3200400" y="1447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95" name="nickel" descr=""/>
          <p:cNvPicPr/>
          <p:nvPr/>
        </p:nvPicPr>
        <p:blipFill>
          <a:blip r:embed="rId20"/>
          <a:stretch/>
        </p:blipFill>
        <p:spPr>
          <a:xfrm>
            <a:off x="1981080" y="129528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96" name="penny" descr=""/>
          <p:cNvPicPr/>
          <p:nvPr/>
        </p:nvPicPr>
        <p:blipFill>
          <a:blip r:embed="rId21"/>
          <a:stretch/>
        </p:blipFill>
        <p:spPr>
          <a:xfrm>
            <a:off x="2666880" y="28954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97" name="pennyback" descr=""/>
          <p:cNvPicPr/>
          <p:nvPr/>
        </p:nvPicPr>
        <p:blipFill>
          <a:blip r:embed="rId22"/>
          <a:stretch/>
        </p:blipFill>
        <p:spPr>
          <a:xfrm>
            <a:off x="1066680" y="1447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98" name="pennyback" descr=""/>
          <p:cNvPicPr/>
          <p:nvPr/>
        </p:nvPicPr>
        <p:blipFill>
          <a:blip r:embed="rId23"/>
          <a:stretch/>
        </p:blipFill>
        <p:spPr>
          <a:xfrm>
            <a:off x="533520" y="19051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281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1066680"/>
          <a:ext cx="8610120" cy="5562000"/>
        </p:xfrm>
        <a:graphic>
          <a:graphicData uri="http://schemas.openxmlformats.org/drawingml/2006/table">
            <a:tbl>
              <a:tblPr/>
              <a:tblGrid>
                <a:gridCol w="4305240"/>
                <a:gridCol w="4304880"/>
              </a:tblGrid>
              <a:tr h="13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teacher has more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: Know your co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s have a front and a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 what they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72200" y="179064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175248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00600" y="34290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095880" y="3276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391520" y="32004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4572000" y="46483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6172200" y="4800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7467480" y="4572000"/>
            <a:ext cx="1257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your co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s have a front and a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 what they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nn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72200" y="179064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00600" y="34290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257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your co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s have a front and a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 what they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i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72200" y="4800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257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your co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s have a front and a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 what they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icke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91520" y="175248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5880" y="3276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257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your coin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ns have a front and a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 what they look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ar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1346040"/>
                <a:gridCol w="1346040"/>
                <a:gridCol w="13464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46483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2574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air equals 5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ies are hairless.  They equal 1 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kels have 1 hair. They equal 5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s have 2 hairs.  They equal 10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ers have 5 hairs.  They equal 25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’ll show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1447920"/>
            <a:ext cx="376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count the hairs by 5 you get the amount the coin eq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: Place your hair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9200" y="1447920"/>
            <a:ext cx="376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count the hairs by 5 you get the amount the coin equ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4:27:12Z</dcterms:created>
  <dc:creator> </dc:creator>
  <dc:description/>
  <dc:language>en-US</dc:language>
  <cp:lastModifiedBy> </cp:lastModifiedBy>
  <dcterms:modified xsi:type="dcterms:W3CDTF">2008-03-12T15:11:55Z</dcterms:modified>
  <cp:revision>15</cp:revision>
  <dc:subject/>
  <dc:title>Hairy Money</dc:title>
</cp:coreProperties>
</file>